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29EA-3E6B-4DB4-A95C-B2120EAE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15B0-C322-45CD-B091-D356B426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BBCD3-EA47-4593-930C-876EC079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10603-6FF7-4EB1-ACE5-1728C63C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3B1D7-CC11-417B-BB63-15E6AB8D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FD9BB-25FC-4FB5-9DB6-0AAFE8C1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9EA92-7B36-4F6E-B11F-272FA18E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2332A-1F18-475D-9838-1D65DE7A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3F858-C560-4F15-81A2-B8F3275D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37BB6-B89E-47EA-95F8-84BB52B8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2EB2F-829E-491F-8A21-F5578463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DEB8E-547B-4596-B22C-9B5239A3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5C7E-D5F9-4E5B-A645-BFEFA43D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CA2CF-BCDC-442D-8A64-FF679293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4D437-A1AD-47C2-9AA6-EA5846CC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76CF2-E900-4473-948E-6FA95C71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9E10F-A7A6-4AA3-9443-28A679C6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1FFE7-B8C4-4F65-B8C2-3F856879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855A9-B14D-45A2-BDBF-89FC8DE2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FAEFB-72C3-46B0-9D9F-A7973125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49F16-C9F1-4A4B-A1FB-D2B23913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FC06E-4667-4823-81DF-51E89776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B9FBE-880D-4DB5-9070-5BF7C4E4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6FDE-EB30-47AA-94ED-2669D846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77A27-DBD0-4D5B-A0B0-84C9EB5B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E532F-5FAA-463E-B615-D9676CAE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1D877-9BD0-4E4F-B64F-3F8A599B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63E5D-D4E1-4EFE-9AA4-374FB674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633D8-E6E6-4FA4-BBB5-CE87D649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F229B-E5D5-4682-8A7C-9DE303D5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81A55-05E8-41EC-A293-566B07FD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5EF04-4E1C-46F5-8B4A-C260C9D3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B41BC-566E-4827-AC80-BEF05E0B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88DD5-EFC7-4CA5-9289-21078902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37FD-E059-4077-87FF-76E0CC1C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D4AB7-DF2A-4EDF-B8E5-37F284EC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27DE9-F657-46D7-A5D4-1C55C3B6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C707C-1616-497B-B9DE-8E45F755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2833F-8F89-4016-BC4D-FC68FF5D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CBD32-0DD6-4DC5-94B9-CA52503E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1F215-9043-4E52-B682-D8EFB35F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94926-8DC3-4B40-A05B-8341082B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62376-DA21-47BB-A90A-56EE5B2D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AE450-DBD6-4CA2-A7AC-9C337E02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83AEB-2234-4EFA-8DA8-B83CA7D8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C500-C81F-4D17-9954-CEBDD78D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19559-2CDB-47C7-BB2C-811821F3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02733-C40D-4872-9EBD-C2754831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E863F-9021-40F1-ABE7-78D551A4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581B7-2C75-4A87-84D6-DDB3A0DC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FFD3E-C394-4A83-B8C9-A7D26E59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A90C8-6FAF-44DC-91BD-AE371CD4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835F9-9B0C-42C1-99FA-A1965C8D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84A0E6-44F8-40B3-9BB0-1A0B724D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39352A-7E85-49EA-BFBA-FABB0AB8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29D63-3E48-4AD7-A2E7-6B7D5601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2239-8800-4BCF-ABC4-927769AD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D4BFF2-7871-4D7B-BB48-D7FE1956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D428C-C181-4EDB-A220-5EEBD595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EEE0C8-FF0D-4DA3-8955-8F234407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0D0EC3-FDD0-47DD-84B9-95EBD4A5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FA2D9B-D6B1-4E49-9DF2-22053AD3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AFA884-A5E3-4A60-8118-BB00413A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34941D-2E58-4907-9E75-A4180FE3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7D3BCF-AE9F-427D-85FF-7E6887BB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9FFE0B-EBED-4A80-98E8-C20A2EC9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651694-E86B-49A8-8850-2BD4618E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A6E9-7A0C-488F-AA82-E4DF8D04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0BC10F-49B3-4AC3-8973-8B354483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9AEC00-E81D-448E-A800-8A808004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72C3A8-8F20-4EB9-A860-61EF463B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68FDF8-3729-4EE8-8D82-756313B7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76D4D7-0CFC-4F01-87C7-6F05DAD8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A7841E-8E3A-4491-AD43-B80CFE2F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E05049-C420-482F-9024-DF5BC407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0EE77C-1F85-4D5F-B946-3B3F77A8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53E4DB-CDC4-43B8-8657-EF14A0A4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E3B3A8-E398-4649-97CD-5D737BAE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584D-2083-4254-96B1-3BE19B5E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8A28A0-E002-440F-919C-715A8740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7CF7A8-255F-4D79-A84C-64CF20F3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F15429-C21C-4315-962E-A360C31D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4F878E-AC0C-405D-B0D0-BBCB82CA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566E08-1488-4D86-81B9-0B430147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31F502-EFE4-418C-A53E-E21A72E4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45D43C-D7C2-493B-A546-E43FC250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E12049-142D-439B-A8E0-AEAC025C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0D5F97-2C59-482F-9F53-707F2100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C4126B-2467-44FB-AD5A-7FF88556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5E1C-50AE-4A8B-880E-EC8B2016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E6E961-A5F1-46A4-A688-3DDBA88C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3BCAED-0649-444C-9F71-C41791C9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22F23E-D6D6-46D0-917C-CD34F6A1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4968C7-DE72-4CB2-AF79-8E8735CE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39B318-948E-4E6A-B9F9-A9F228BA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C0D9C5-6CF5-413D-AF5C-384C7827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BF6F93-6BD4-4799-A99F-5C1D9148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516C15-6E6A-488E-BEE7-0B2E978D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2E01AA-5009-4409-ABF7-03BC08D0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1B3016-1F5A-4FF8-B149-D2AB279C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CEE1-EA42-481C-AA7A-687AA975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DE75D3-2601-415C-8D9B-41B8604D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526219-5854-4E84-8F17-A982FECE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459EEF-CB67-44FE-B5F5-A0763685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FCA169-B63E-4C93-A1A1-29DFC766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CC69C9-F0B0-4436-8643-94D288A2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AA3620-CD2A-4665-ADDC-5141101C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B7A074-D748-44C1-A03B-B4D031F0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0619CF-E30F-48AC-8770-586D5317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745EE8-F6E5-4020-A5E9-EFF6318E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79E1DE-4402-4A09-99C4-20C4991C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935-65F1-4C6B-9AA9-7E9B01FE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F9E4-2067-4239-9C7D-E518A513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94EA03-25A6-4360-BEB5-D07426D4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2F9E48-A725-4B33-86CF-48D71A69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7608F1-5AFB-48A4-8610-6DB5D3B4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CBF339-FF05-48AA-9723-1AE84C93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E2300F-073A-4C24-A42D-5CB85D0B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58DDE1-1819-40D0-95E2-A41B71CB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730FDB-9780-42BD-8AF8-D8216AE1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44ED0B-2748-46BE-80FE-996097E6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AD80AE-8BFA-4426-86D4-77DAEC7D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2DD2EC-C9C6-4C8D-A3EC-C7DEC5EA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7D0A-6BAF-4819-A927-8B0D54BE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367C5D-CCE8-404A-9705-6B19D823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4E2F2E-B50A-4583-86DC-059522CE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1BE3EA-B4C0-4D76-A594-E483D2AC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B0E617-45E1-4E6E-B6BD-9F804CE7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63789F-88D1-4542-8E45-90443DE6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2D5C45-8988-4EB5-A3DB-9FFF21A5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66D568-2C67-4A1E-8256-1268ADFB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07A8E9-0F2C-4DDA-A9C2-529EE0AF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A842D4-D944-4D58-A19D-CDF1481F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5FE67C-652E-44DF-9754-7A5FF0EE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B4EC-38FC-4AD6-9853-6DF04809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DC73EF-6A22-4491-AE11-00554975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51B962-0668-4E9E-AE4E-2B57730A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DCB5BA-0CB5-4377-A710-18EA3395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42EB5E-53FC-41ED-BC78-894396F8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C17EDC-C632-431C-B08B-B661A87B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EC379A-80C5-41D8-A912-10CB9BB4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4D0B5C-CC96-4440-969D-9DB5E580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5C96C7-ADE2-4881-929F-11654163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3DA54E-DA04-4A29-BFBF-9C929B96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3F5CF1-FD6F-4637-AB77-E116218A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1121-56A3-44AF-9448-31A17B19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728CFC-0AD5-4EFD-AFBE-7F12D979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AA228D-AE7E-4956-B211-38F3FF61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22A1F4-2D81-4A2F-99CB-86ADDEEE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C55221-901E-4A52-BDC4-73520D8D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8AD6EF-4294-49C0-B3C8-1DEC86CF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6C3DBE-AA72-4889-8694-20DEF1E8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8E1195-85B7-4AB3-B55C-48B3BBB3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369D55-FA58-4F64-A965-3662D7CD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7A5F51-1EF2-4464-9FEB-049DC256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F8CC8C-159D-4938-9DCB-69154D16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49FE-D555-447E-BD77-FB658DA6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49BA17-EFEF-4181-9FF8-AF43B1E0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C80076-5DB5-4B0D-99AB-BAC6E36B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CCEE3C-FC0C-4939-B24C-4E4FD859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BD109E-1482-4262-AD39-7F391BE5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0CB32E-6E74-4AB4-A17C-F0A2C8AE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46CE06-8D8E-4314-8AFE-4B37659D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B36D74-91E4-4655-81B0-7F0ABB91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BAA712-370E-4BCE-A651-20EA9E67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D2910A-7ECE-4FE4-AADD-F6DF19EA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11EFDC-F1D7-4AFE-8380-331DFA95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5DEBE-B3BC-4F68-916E-199DF018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492352-7812-46A7-B194-2B63B63D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336689-5E5C-4078-B455-2DE3D8E3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0665A5-435A-4FA2-9EC6-B0EFD041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9EF8B-6F86-435B-8996-56EF698E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F73A0-BAA1-4B1D-A8B6-0947E98A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FC804-3630-4530-BAFB-5B2E7C59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1C951-825F-40AC-8C55-AA4D9EF2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24E-83EA-4E7B-BF05-61B58EC3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0E961-5F66-4A4E-9AFC-1F7EE05F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13A3E-D545-4990-AA10-14D5AF83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F7698-925A-4CE6-B1C7-50E7687B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343B5-E3F1-4A39-ABFC-7037DCF5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9F56C-41F9-4709-AB49-E64B4487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78EF1-039C-430F-B018-E5F2842D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B9372-ACE0-410A-BA78-833318F9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F1B31-0B9C-4640-AD7D-2B0F67D7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3829E-A4F5-467F-A36B-1E77FF1D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E784E-0EF5-4A3C-859E-97C2E467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F6B-34C5-42BC-9DEC-253BB2E6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0E8AC-CA3F-4E29-A626-910960B9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6ADA9-C2A3-44CD-B569-83413B92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E848E-9ABB-4240-BBBE-221822E6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60D4F-EC72-4364-946D-D060E800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CA5B3-A6BD-477A-BC9C-71DE32AA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B08E7-956D-4C98-A21C-942D1112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E948C-9812-4AA9-ABE9-8397F690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D7A68-2334-49D3-BD24-96196D2A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CB4D1-07BD-4BB9-B522-5E2FFA46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2DA1F-AE15-4125-96AD-960776D8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5535-901A-46C5-B868-621840BF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0B3F8-09F9-4D74-B7F9-8FFCB27C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36BC1-58B8-458C-8C5C-9C8DBE2D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9D8FC-C6E4-4C1E-B98C-2054AE4A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88349-9915-4282-BBA0-D7A534D2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F81B6-4903-41CE-92D4-E6D54C27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80BAD-E7B1-42B9-8B9A-1B7B6800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8BAB2-762F-4BD8-984A-CEC29562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24E9C-84E6-4CD1-833E-3E493253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DF75F-E030-4939-BB4C-6ABA52A5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87AE1-9BBC-49E7-8C50-FF40AB2E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042B-253C-4313-8F1B-6AC43262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2DFFF-D2A0-4689-BCD6-19B98FD1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0580F-1E8A-4161-9B42-8E50EC32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B2DC3-1CB9-4E30-9E3A-CABB381B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5C201-6492-46BE-8E4B-CFCD57CF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93FB7-D54E-45AC-BABE-BB519C4D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E0F81-0BDD-420D-9BC3-AA644897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1A2CE-1CF8-4166-8C5D-BB6F4F3E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E3DED-E270-44F5-8F92-6A955053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A62B8-D822-4055-AE9B-3A9E3144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F158A-067C-4662-BCBF-17136CB7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2173-7EEB-4F74-9F88-C6E7B674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831E4-59F9-4217-AAAF-719B0E85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02DCA-EE32-4EB6-802B-70338555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BC9ED-1AB9-4BB5-AC14-5DC8E677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7163F-E35A-4038-BE08-DFF874F6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6CA6A-9D98-4408-ADA0-932BCA4B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91724-9820-4C9B-947A-47F8A65A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8E1B6-00C1-4642-924C-7D72085F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C6722-7CEB-4D47-A7D7-66FD8A10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3EE0A-FFD3-496A-ADEB-B25C63D4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7BBB0-9163-457A-854A-C27BAC2E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3685-45DF-4201-BA34-2617B48E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A435A-FE57-4ABA-BC0D-3D244483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70B9B-6BB0-4BB9-AFF2-30CC9D2E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E61A7-CBAF-4822-896A-EC4B0D50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2EFFE-9ABF-4CB0-8D2F-A8F91F0C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BAB49-9698-4F32-8558-45CCFCB6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38B9B-DB7F-4B83-B69B-87783CBA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B6570-EF32-4906-91E9-563179CC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AFA77-657C-4EDB-BBC6-A29E9049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75E66-B326-42BD-B023-BED2D4EC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11C6C-9FB3-45EC-8D3B-450B84D7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ACC6-34DA-476A-AEA6-8AF57E8F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8F76F-D9C9-4256-B966-7BC66EB0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D6E55-20A5-4294-AF14-48FA6C52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9710D-1A80-4D2D-8E8F-AAEF8408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788D0-CE79-4096-A597-99F975E2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5FFB5-33EC-4A14-AAB8-F691D232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219E9-0680-468B-A188-699D470E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F4751-7B16-4F25-AEFD-A45AEB58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4BECD-4280-4478-9F58-99E44F66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6A673-8B45-47AE-BCE0-5A420612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950E4-DB1A-485D-871D-D834518F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CA84-5D5E-42BD-A894-575986260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BD61-D96C-4DD5-AC06-C534E01E24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95B2-736A-4EF3-B88D-622B894D0F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F9AC-133E-40B1-91EF-FB2C9D011D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256B-FB46-4CA6-A759-69616DBD98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8C79-6C7C-4566-814B-2012775F47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8B62-A02B-43D2-8795-A1E1168136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6107-35BE-43D0-A9C3-82F5F5DE51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0B2A-C5A8-4B4A-A8D5-86ADD77B8E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B761-EFAA-4D0D-B2F0-2904961F88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B445-AC7B-4116-A35F-66B81BA76E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C82E-7F4E-4C95-9E14-D71E7B4E0F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CA03-816D-4094-AFF2-1D94E56278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E104-69C6-4753-A40A-5322CF30D7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C1AF-F637-48A3-9794-9C5E9EEF3F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6A5B-02E5-4829-B5F7-E4FBB5451C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9CF2-B8CA-4E0F-A612-ED619E3F9A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0A4E-717F-4CB3-B0C0-415B4A5473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033E-C135-40A9-A968-42E7E58C28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F2A7-F010-42E7-8261-8B3C89B163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5E7E-CE37-4C6C-8505-BFEAF76E68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0727-68F1-45B9-9B64-58919000AF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B506-7262-4305-A8B6-CE827CA25E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A244-F798-4893-BD5A-9CE30DD7C0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C26C-3076-4A98-803B-4BE1AA2C9A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74DE-24F1-44B9-933D-451E573DEA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0186-6B49-4733-8A5E-6B89D98804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C873-E7B1-411C-AF6F-89545E74B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D090-025E-4C4A-8BF0-98F3806522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8B2A-A11F-4795-A0A0-D06E5A66E8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2C32-74E5-42F4-B205-587A393774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AA2E-FA4B-43EA-BD94-2FD7464EDE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E0F4-BDAB-446A-A7C6-025631090A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3DA7-E5CD-4FAA-9BA0-33B57FF83E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1D27-7CA3-44C0-AF3E-7A010DAA77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A356-518B-4AFB-80EF-8E06189386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8CC4-6FD8-4D00-8A07-84922CDBCC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2287-D24D-46DF-8A4C-B42D397474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02D2-4A9E-4665-8D81-3EE29D61EF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81C1-FAFE-45B6-9F9A-CB487959B2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2400480" y="3114720"/>
            <a:ext cx="434340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328680" y="892080"/>
            <a:ext cx="8486640" cy="57438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2928960" y="3071880"/>
            <a:ext cx="1000080" cy="3920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6072120" y="3071880"/>
            <a:ext cx="1000080" cy="3920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4"/>
          <a:stretch/>
        </p:blipFill>
        <p:spPr>
          <a:xfrm>
            <a:off x="3286080" y="4603680"/>
            <a:ext cx="1500120" cy="3920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5"/>
          <a:stretch/>
        </p:blipFill>
        <p:spPr>
          <a:xfrm>
            <a:off x="5357880" y="4613400"/>
            <a:ext cx="1071360" cy="393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6"/>
          <a:stretch/>
        </p:blipFill>
        <p:spPr>
          <a:xfrm>
            <a:off x="1428840" y="6149880"/>
            <a:ext cx="1000080" cy="3920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7"/>
          <a:stretch/>
        </p:blipFill>
        <p:spPr>
          <a:xfrm>
            <a:off x="2928960" y="6149880"/>
            <a:ext cx="100008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357120" y="2624040"/>
            <a:ext cx="8429760" cy="16099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2"/>
          <a:stretch/>
        </p:blipFill>
        <p:spPr>
          <a:xfrm>
            <a:off x="2714760" y="3214800"/>
            <a:ext cx="57132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324000" y="992160"/>
            <a:ext cx="8496000" cy="55436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2"/>
          <a:stretch/>
        </p:blipFill>
        <p:spPr>
          <a:xfrm>
            <a:off x="3714840" y="2521080"/>
            <a:ext cx="1857240" cy="393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3"/>
          <a:stretch/>
        </p:blipFill>
        <p:spPr>
          <a:xfrm>
            <a:off x="4417920" y="3551400"/>
            <a:ext cx="1000080" cy="3920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4"/>
          <a:stretch/>
        </p:blipFill>
        <p:spPr>
          <a:xfrm>
            <a:off x="3143160" y="4572000"/>
            <a:ext cx="1500120" cy="3920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5"/>
          <a:stretch/>
        </p:blipFill>
        <p:spPr>
          <a:xfrm>
            <a:off x="4714920" y="5613480"/>
            <a:ext cx="1928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333360" y="770040"/>
            <a:ext cx="8477280" cy="59529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2"/>
          <a:stretch/>
        </p:blipFill>
        <p:spPr>
          <a:xfrm>
            <a:off x="2786040" y="766800"/>
            <a:ext cx="1000080" cy="393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3"/>
          <a:stretch/>
        </p:blipFill>
        <p:spPr>
          <a:xfrm>
            <a:off x="730080" y="2286000"/>
            <a:ext cx="543240" cy="4302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4"/>
          <a:stretch/>
        </p:blipFill>
        <p:spPr>
          <a:xfrm>
            <a:off x="714240" y="4284720"/>
            <a:ext cx="54324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357120" y="784080"/>
            <a:ext cx="8429760" cy="59245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2"/>
          <a:stretch/>
        </p:blipFill>
        <p:spPr>
          <a:xfrm>
            <a:off x="750960" y="128592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3"/>
          <a:stretch/>
        </p:blipFill>
        <p:spPr>
          <a:xfrm>
            <a:off x="750960" y="3784680"/>
            <a:ext cx="5428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361800" y="776160"/>
            <a:ext cx="8420400" cy="60105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2"/>
          <a:stretch/>
        </p:blipFill>
        <p:spPr>
          <a:xfrm>
            <a:off x="285840" y="2265480"/>
            <a:ext cx="8775720" cy="4143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3"/>
          <a:stretch/>
        </p:blipFill>
        <p:spPr>
          <a:xfrm>
            <a:off x="285840" y="2765520"/>
            <a:ext cx="8775720" cy="4143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4"/>
          <a:stretch/>
        </p:blipFill>
        <p:spPr>
          <a:xfrm>
            <a:off x="285840" y="3760920"/>
            <a:ext cx="8775720" cy="4143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5"/>
          <a:stretch/>
        </p:blipFill>
        <p:spPr>
          <a:xfrm>
            <a:off x="285840" y="4780080"/>
            <a:ext cx="8775720" cy="4143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6"/>
          <a:stretch/>
        </p:blipFill>
        <p:spPr>
          <a:xfrm>
            <a:off x="285840" y="6300720"/>
            <a:ext cx="877572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333360" y="789120"/>
            <a:ext cx="8477280" cy="49528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2"/>
          <a:stretch/>
        </p:blipFill>
        <p:spPr>
          <a:xfrm>
            <a:off x="285840" y="1778040"/>
            <a:ext cx="8775720" cy="4143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3"/>
          <a:stretch/>
        </p:blipFill>
        <p:spPr>
          <a:xfrm>
            <a:off x="3571920" y="3286080"/>
            <a:ext cx="2000160" cy="3920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4"/>
          <a:stretch/>
        </p:blipFill>
        <p:spPr>
          <a:xfrm>
            <a:off x="7429680" y="3286080"/>
            <a:ext cx="1000080" cy="3920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5"/>
          <a:stretch/>
        </p:blipFill>
        <p:spPr>
          <a:xfrm>
            <a:off x="1714680" y="3786120"/>
            <a:ext cx="1000080" cy="3920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6"/>
          <a:stretch/>
        </p:blipFill>
        <p:spPr>
          <a:xfrm>
            <a:off x="3286080" y="4813200"/>
            <a:ext cx="2071800" cy="393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7"/>
          <a:stretch/>
        </p:blipFill>
        <p:spPr>
          <a:xfrm>
            <a:off x="6215040" y="4807080"/>
            <a:ext cx="10000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15:17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